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gif" ContentType="image/gif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08235-870A-498D-812D-B8BD96ABD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B6E4D-B8CA-439F-B1FC-2FB7F2F6A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97BD9-5855-46B5-9F36-2277CC82F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583C7-1DE6-4B52-8771-79FA53D0D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30104-94C3-4491-8F96-93D0B7DDB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C8CA4-5E56-4261-99D9-BBC14F3C1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034BE-E4F7-47F3-B2E3-C095AA6F5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76478-FCCC-4728-AB5A-4DBCE2A4B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AD153-B9A5-4CAB-A5BA-22FDCAE68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FDC33-64BD-44AC-B4CD-2F760ABFF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D7A66-F255-48EC-AAC2-3F5C0BC08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BEF55-C17F-4A22-A1AD-CBDC66302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FE420-83AB-4601-9D9D-0B0BA9ECD890}" type="slidenum">
              <a:rPr b="0" lang="es-MX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611280" y="1341360"/>
            <a:ext cx="8208720" cy="345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ffff"/>
                  </a:solidFill>
                  <a:miter/>
                </a:ln>
                <a:solidFill>
                  <a:srgbClr val="000080">
                    <a:alpha val="80000"/>
                  </a:srgbClr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Pintores oaxaqueños</a:t>
            </a:r>
            <a:endParaRPr b="0" lang="en-US" sz="1800" spc="1" strike="noStrike">
              <a:ln w="25560">
                <a:solidFill>
                  <a:srgbClr val="00ffff"/>
                </a:solidFill>
                <a:miter/>
              </a:ln>
              <a:solidFill>
                <a:srgbClr val="000080">
                  <a:alpha val="80000"/>
                </a:srgbClr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abal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1619280" y="1492200"/>
            <a:ext cx="5977080" cy="468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Veamos algunas pinturas de Rufino Tamay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2411280" y="1700280"/>
            <a:ext cx="4824720" cy="397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Inspir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2050920" y="1771560"/>
            <a:ext cx="5400720" cy="392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Lu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1908000" y="1560600"/>
            <a:ext cx="4824720" cy="44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Hombre mirando la lu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2484360" y="1557360"/>
            <a:ext cx="3862440" cy="49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Mirando pájar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1835280" y="1550880"/>
            <a:ext cx="4968720" cy="41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Sandí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1116000" y="1455840"/>
            <a:ext cx="7128000" cy="46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Oaxaca, un estado lleno de ar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os oaxaqueños somos personas que apreciamos la música, las canciones, las pinturas y los trabajos artesana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or ejemplo, en la region mixe tenemos muy buenas bandas y orquest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as mujeres hacen bordados muy bonitos y finos, que sirven para vestir, para hacer cojines y adornos de mes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Nuestra cocina también es un verdadero ar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Pintores oaxaqueñ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Hay muchos pintores en Oaxaca. Dos de ellos s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Francisco Toledo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Rufino Tamay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Vamos a hacer un viaje para ver algunas obras de estos pintor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2462040" y="3433680"/>
            <a:ext cx="4219920" cy="8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Obra de Francisco Tole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684360" y="2205000"/>
            <a:ext cx="2546280" cy="25923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3924360" y="1916280"/>
            <a:ext cx="417672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Tortug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2268360" y="1916280"/>
            <a:ext cx="4535640" cy="337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hang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2411280" y="2058840"/>
            <a:ext cx="4105440" cy="38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Elefan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2050920" y="1700280"/>
            <a:ext cx="5329440" cy="38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El mono de la tin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1763640" y="1773360"/>
            <a:ext cx="5329440" cy="380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31T00:00:40Z</dcterms:created>
  <dc:creator>rocio</dc:creator>
  <dc:description/>
  <dc:language>en-US</dc:language>
  <cp:lastModifiedBy>rocio</cp:lastModifiedBy>
  <dcterms:modified xsi:type="dcterms:W3CDTF">2006-06-19T17:39:33Z</dcterms:modified>
  <cp:revision>9</cp:revision>
  <dc:subject/>
  <dc:title>Diapositiva 1</dc:title>
</cp:coreProperties>
</file>